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1C7-4B81-465E-8577-10511A63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2056-3743-48A7-A583-2AF3CD41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D701-CB68-4BF9-882C-1628A597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2B3B-8562-4122-A7C4-E9A65F99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34D-B585-419E-8735-AC6C24A1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486F-F1D6-476F-A7DB-B7B32CC7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6733-30C9-4DDF-949F-E301D334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DF0F-2659-4EA7-8BB0-9A0EF593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5E69-8F92-4B4D-B2FD-FCA7F58F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D25B-EF6E-486A-8CB0-BD4526E9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22E0-AA82-4F9C-890D-5D766F84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1B54-284E-4355-96AF-474C6F76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2C17-6530-419B-9791-21747D6E0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hyperlink" Target="http://upload.wikimedia.org/wikipedia/en/6/6c/MactanShrineTower2.jpg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mous People Fri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. Mundorf’s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tober 24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Famous Per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09320" y="3200040"/>
            <a:ext cx="4419720" cy="685800"/>
          </a:xfrm>
          <a:prstGeom prst="rect">
            <a:avLst/>
          </a:prstGeom>
          <a:solidFill>
            <a:srgbClr val="ccecff">
              <a:alpha val="5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erdinand Magel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www.faqs.org/docs/factbook/reference_maps/jpg/political_world.jpg"/>
          <p:cNvPicPr/>
          <p:nvPr/>
        </p:nvPicPr>
        <p:blipFill>
          <a:blip r:embed="rId2"/>
          <a:stretch/>
        </p:blipFill>
        <p:spPr>
          <a:xfrm>
            <a:off x="27000" y="838080"/>
            <a:ext cx="9117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bcaa.com/images/content/magellan-gps.gif"/>
          <p:cNvPicPr/>
          <p:nvPr/>
        </p:nvPicPr>
        <p:blipFill>
          <a:blip r:embed="rId2"/>
          <a:stretch/>
        </p:blipFill>
        <p:spPr>
          <a:xfrm>
            <a:off x="990720" y="304920"/>
            <a:ext cx="2828880" cy="2295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b3.indo-work.com/pdimage/88/687888_668723_magellan_triton_2000_gps.jpg"/>
          <p:cNvPicPr/>
          <p:nvPr/>
        </p:nvPicPr>
        <p:blipFill>
          <a:blip r:embed="rId3"/>
          <a:stretch/>
        </p:blipFill>
        <p:spPr>
          <a:xfrm>
            <a:off x="4324320" y="609480"/>
            <a:ext cx="4819680" cy="4819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gpsautotracker.info/wp-content/uploads/2008/04/magellan_gps_blazer12.jpg"/>
          <p:cNvPicPr/>
          <p:nvPr/>
        </p:nvPicPr>
        <p:blipFill>
          <a:blip r:embed="rId4"/>
          <a:stretch/>
        </p:blipFill>
        <p:spPr>
          <a:xfrm>
            <a:off x="380880" y="327672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rdinand Magel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657600" y="304560"/>
            <a:ext cx="5486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rtuguese ________and ________ who sailed for ________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lieved he could sail west, go around __________ America, cross the _________ Ocean, and end up back in ____________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ft Spain in September _________ with five ships and about _______ me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 named the ___________ Ocean because it looked so calm. They didn’t know how ________ it was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gellan was _________ in a battle with the people on the _____________ Island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w returned September ________ with one ship and ________ members of the original crew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gellan’s crew became the first explorers to __________________ the worl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http://media-2.web.britannica.com/eb-media/47/75647-004-045482B7.jpg"/>
          <p:cNvPicPr/>
          <p:nvPr/>
        </p:nvPicPr>
        <p:blipFill>
          <a:blip r:embed="rId1"/>
          <a:stretch/>
        </p:blipFill>
        <p:spPr>
          <a:xfrm>
            <a:off x="228600" y="1828800"/>
            <a:ext cx="33336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sonenvir.at/data/magellan/magellan.png"/>
          <p:cNvPicPr/>
          <p:nvPr/>
        </p:nvPicPr>
        <p:blipFill>
          <a:blip r:embed="rId2"/>
          <a:stretch/>
        </p:blipFill>
        <p:spPr>
          <a:xfrm>
            <a:off x="246240" y="762120"/>
            <a:ext cx="8669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2" descr="http://l.yimg.com/g/images/spaceball.gif"/>
          <p:cNvPicPr/>
          <p:nvPr/>
        </p:nvPicPr>
        <p:blipFill>
          <a:blip r:embed="rId2"/>
          <a:stretch/>
        </p:blipFill>
        <p:spPr>
          <a:xfrm>
            <a:off x="4006800" y="-2305080"/>
            <a:ext cx="3133800" cy="4762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http://farm1.static.flickr.com/7/9506129_fa75cf791b.jpg?v=0"/>
          <p:cNvPicPr/>
          <p:nvPr/>
        </p:nvPicPr>
        <p:blipFill>
          <a:blip r:embed="rId3"/>
          <a:stretch/>
        </p:blipFill>
        <p:spPr>
          <a:xfrm>
            <a:off x="5029200" y="990720"/>
            <a:ext cx="3362400" cy="511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Image:MactanShrineTower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920" y="990720"/>
            <a:ext cx="3886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27968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Ferdinand Magellan famo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le 4"/>
          <p:cNvSpPr/>
          <p:nvPr/>
        </p:nvSpPr>
        <p:spPr>
          <a:xfrm>
            <a:off x="53352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8:30:37Z</dcterms:created>
  <dc:creator>CCPS</dc:creator>
  <dc:description/>
  <dc:language>en-US</dc:language>
  <cp:lastModifiedBy>CCPS</cp:lastModifiedBy>
  <dcterms:modified xsi:type="dcterms:W3CDTF">2008-10-24T12:04:55Z</dcterms:modified>
  <cp:revision>37</cp:revision>
  <dc:subject/>
  <dc:title>Famous People Friday</dc:title>
</cp:coreProperties>
</file>